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  <p:sldId id="301" r:id="rId67"/>
    <p:sldId id="302" r:id="rId68"/>
    <p:sldId id="303" r:id="rId69"/>
    <p:sldId id="304" r:id="rId70"/>
    <p:sldId id="305" r:id="rId71"/>
    <p:sldId id="306" r:id="rId72"/>
    <p:sldId id="307" r:id="rId73"/>
    <p:sldId id="308" r:id="rId74"/>
    <p:sldId id="309" r:id="rId75"/>
    <p:sldId id="310" r:id="rId76"/>
    <p:sldId id="311" r:id="rId77"/>
    <p:sldId id="312" r:id="rId78"/>
    <p:sldId id="313" r:id="rId79"/>
    <p:sldId id="314" r:id="rId80"/>
    <p:sldId id="315" r:id="rId81"/>
    <p:sldId id="316" r:id="rId82"/>
    <p:sldId id="317" r:id="rId83"/>
    <p:sldId id="318" r:id="rId84"/>
    <p:sldId id="319" r:id="rId85"/>
    <p:sldId id="320" r:id="rId86"/>
    <p:sldId id="321" r:id="rId87"/>
    <p:sldId id="322" r:id="rId88"/>
    <p:sldId id="323" r:id="rId89"/>
    <p:sldId id="324" r:id="rId90"/>
    <p:sldId id="325" r:id="rId91"/>
    <p:sldId id="326" r:id="rId92"/>
    <p:sldId id="327" r:id="rId93"/>
    <p:sldId id="328" r:id="rId94"/>
    <p:sldId id="329" r:id="rId95"/>
    <p:sldId id="330" r:id="rId96"/>
    <p:sldId id="331" r:id="rId97"/>
    <p:sldId id="332" r:id="rId98"/>
    <p:sldId id="333" r:id="rId99"/>
    <p:sldId id="334" r:id="rId100"/>
    <p:sldId id="335" r:id="rId101"/>
    <p:sldId id="336" r:id="rId102"/>
    <p:sldId id="337" r:id="rId103"/>
    <p:sldId id="338" r:id="rId104"/>
    <p:sldId id="339" r:id="rId105"/>
    <p:sldId id="340" r:id="rId106"/>
    <p:sldId id="341" r:id="rId107"/>
    <p:sldId id="342" r:id="rId108"/>
    <p:sldId id="343" r:id="rId109"/>
    <p:sldId id="344" r:id="rId110"/>
    <p:sldId id="345" r:id="rId111"/>
    <p:sldId id="346" r:id="rId112"/>
    <p:sldId id="347" r:id="rId113"/>
    <p:sldId id="348" r:id="rId114"/>
    <p:sldId id="349" r:id="rId115"/>
    <p:sldId id="350" r:id="rId116"/>
    <p:sldId id="351" r:id="rId117"/>
    <p:sldId id="352" r:id="rId118"/>
    <p:sldId id="353" r:id="rId119"/>
    <p:sldId id="354" r:id="rId120"/>
    <p:sldId id="355" r:id="rId121"/>
    <p:sldId id="356" r:id="rId122"/>
    <p:sldId id="357" r:id="rId123"/>
    <p:sldId id="358" r:id="rId124"/>
    <p:sldId id="359" r:id="rId125"/>
    <p:sldId id="360" r:id="rId126"/>
    <p:sldId id="361" r:id="rId127"/>
    <p:sldId id="362" r:id="rId128"/>
    <p:sldId id="363" r:id="rId129"/>
    <p:sldId id="364" r:id="rId130"/>
    <p:sldId id="365" r:id="rId131"/>
    <p:sldId id="366" r:id="rId132"/>
    <p:sldId id="367" r:id="rId133"/>
    <p:sldId id="368" r:id="rId134"/>
    <p:sldId id="369" r:id="rId135"/>
    <p:sldId id="370" r:id="rId136"/>
    <p:sldId id="371" r:id="rId137"/>
    <p:sldId id="372" r:id="rId138"/>
    <p:sldId id="373" r:id="rId139"/>
    <p:sldId id="374" r:id="rId140"/>
    <p:sldId id="375" r:id="rId141"/>
    <p:sldId id="376" r:id="rId1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slide" Target="slides/slide46.xml"/><Relationship Id="rId68" Type="http://schemas.openxmlformats.org/officeDocument/2006/relationships/slide" Target="slides/slide47.xml"/><Relationship Id="rId69" Type="http://schemas.openxmlformats.org/officeDocument/2006/relationships/slide" Target="slides/slide48.xml"/><Relationship Id="rId70" Type="http://schemas.openxmlformats.org/officeDocument/2006/relationships/slide" Target="slides/slide49.xml"/><Relationship Id="rId71" Type="http://schemas.openxmlformats.org/officeDocument/2006/relationships/slide" Target="slides/slide50.xml"/><Relationship Id="rId72" Type="http://schemas.openxmlformats.org/officeDocument/2006/relationships/slide" Target="slides/slide51.xml"/><Relationship Id="rId73" Type="http://schemas.openxmlformats.org/officeDocument/2006/relationships/slide" Target="slides/slide52.xml"/><Relationship Id="rId74" Type="http://schemas.openxmlformats.org/officeDocument/2006/relationships/slide" Target="slides/slide53.xml"/><Relationship Id="rId75" Type="http://schemas.openxmlformats.org/officeDocument/2006/relationships/slide" Target="slides/slide54.xml"/><Relationship Id="rId76" Type="http://schemas.openxmlformats.org/officeDocument/2006/relationships/slide" Target="slides/slide55.xml"/><Relationship Id="rId77" Type="http://schemas.openxmlformats.org/officeDocument/2006/relationships/slide" Target="slides/slide56.xml"/><Relationship Id="rId78" Type="http://schemas.openxmlformats.org/officeDocument/2006/relationships/slide" Target="slides/slide57.xml"/><Relationship Id="rId79" Type="http://schemas.openxmlformats.org/officeDocument/2006/relationships/slide" Target="slides/slide58.xml"/><Relationship Id="rId80" Type="http://schemas.openxmlformats.org/officeDocument/2006/relationships/slide" Target="slides/slide59.xml"/><Relationship Id="rId81" Type="http://schemas.openxmlformats.org/officeDocument/2006/relationships/slide" Target="slides/slide60.xml"/><Relationship Id="rId82" Type="http://schemas.openxmlformats.org/officeDocument/2006/relationships/slide" Target="slides/slide61.xml"/><Relationship Id="rId83" Type="http://schemas.openxmlformats.org/officeDocument/2006/relationships/slide" Target="slides/slide62.xml"/><Relationship Id="rId84" Type="http://schemas.openxmlformats.org/officeDocument/2006/relationships/slide" Target="slides/slide63.xml"/><Relationship Id="rId85" Type="http://schemas.openxmlformats.org/officeDocument/2006/relationships/slide" Target="slides/slide64.xml"/><Relationship Id="rId86" Type="http://schemas.openxmlformats.org/officeDocument/2006/relationships/slide" Target="slides/slide65.xml"/><Relationship Id="rId87" Type="http://schemas.openxmlformats.org/officeDocument/2006/relationships/slide" Target="slides/slide66.xml"/><Relationship Id="rId88" Type="http://schemas.openxmlformats.org/officeDocument/2006/relationships/slide" Target="slides/slide67.xml"/><Relationship Id="rId89" Type="http://schemas.openxmlformats.org/officeDocument/2006/relationships/slide" Target="slides/slide68.xml"/><Relationship Id="rId90" Type="http://schemas.openxmlformats.org/officeDocument/2006/relationships/slide" Target="slides/slide69.xml"/><Relationship Id="rId91" Type="http://schemas.openxmlformats.org/officeDocument/2006/relationships/slide" Target="slides/slide70.xml"/><Relationship Id="rId92" Type="http://schemas.openxmlformats.org/officeDocument/2006/relationships/slide" Target="slides/slide71.xml"/><Relationship Id="rId93" Type="http://schemas.openxmlformats.org/officeDocument/2006/relationships/slide" Target="slides/slide72.xml"/><Relationship Id="rId94" Type="http://schemas.openxmlformats.org/officeDocument/2006/relationships/slide" Target="slides/slide73.xml"/><Relationship Id="rId95" Type="http://schemas.openxmlformats.org/officeDocument/2006/relationships/slide" Target="slides/slide74.xml"/><Relationship Id="rId96" Type="http://schemas.openxmlformats.org/officeDocument/2006/relationships/slide" Target="slides/slide75.xml"/><Relationship Id="rId97" Type="http://schemas.openxmlformats.org/officeDocument/2006/relationships/slide" Target="slides/slide76.xml"/><Relationship Id="rId98" Type="http://schemas.openxmlformats.org/officeDocument/2006/relationships/slide" Target="slides/slide77.xml"/><Relationship Id="rId99" Type="http://schemas.openxmlformats.org/officeDocument/2006/relationships/slide" Target="slides/slide78.xml"/><Relationship Id="rId100" Type="http://schemas.openxmlformats.org/officeDocument/2006/relationships/slide" Target="slides/slide79.xml"/><Relationship Id="rId101" Type="http://schemas.openxmlformats.org/officeDocument/2006/relationships/slide" Target="slides/slide80.xml"/><Relationship Id="rId102" Type="http://schemas.openxmlformats.org/officeDocument/2006/relationships/slide" Target="slides/slide81.xml"/><Relationship Id="rId103" Type="http://schemas.openxmlformats.org/officeDocument/2006/relationships/slide" Target="slides/slide82.xml"/><Relationship Id="rId104" Type="http://schemas.openxmlformats.org/officeDocument/2006/relationships/slide" Target="slides/slide83.xml"/><Relationship Id="rId105" Type="http://schemas.openxmlformats.org/officeDocument/2006/relationships/slide" Target="slides/slide84.xml"/><Relationship Id="rId106" Type="http://schemas.openxmlformats.org/officeDocument/2006/relationships/slide" Target="slides/slide85.xml"/><Relationship Id="rId107" Type="http://schemas.openxmlformats.org/officeDocument/2006/relationships/slide" Target="slides/slide86.xml"/><Relationship Id="rId108" Type="http://schemas.openxmlformats.org/officeDocument/2006/relationships/slide" Target="slides/slide87.xml"/><Relationship Id="rId109" Type="http://schemas.openxmlformats.org/officeDocument/2006/relationships/slide" Target="slides/slide88.xml"/><Relationship Id="rId110" Type="http://schemas.openxmlformats.org/officeDocument/2006/relationships/slide" Target="slides/slide89.xml"/><Relationship Id="rId111" Type="http://schemas.openxmlformats.org/officeDocument/2006/relationships/slide" Target="slides/slide90.xml"/><Relationship Id="rId112" Type="http://schemas.openxmlformats.org/officeDocument/2006/relationships/slide" Target="slides/slide91.xml"/><Relationship Id="rId113" Type="http://schemas.openxmlformats.org/officeDocument/2006/relationships/slide" Target="slides/slide92.xml"/><Relationship Id="rId114" Type="http://schemas.openxmlformats.org/officeDocument/2006/relationships/slide" Target="slides/slide93.xml"/><Relationship Id="rId115" Type="http://schemas.openxmlformats.org/officeDocument/2006/relationships/slide" Target="slides/slide94.xml"/><Relationship Id="rId116" Type="http://schemas.openxmlformats.org/officeDocument/2006/relationships/slide" Target="slides/slide95.xml"/><Relationship Id="rId117" Type="http://schemas.openxmlformats.org/officeDocument/2006/relationships/slide" Target="slides/slide96.xml"/><Relationship Id="rId118" Type="http://schemas.openxmlformats.org/officeDocument/2006/relationships/slide" Target="slides/slide97.xml"/><Relationship Id="rId119" Type="http://schemas.openxmlformats.org/officeDocument/2006/relationships/slide" Target="slides/slide98.xml"/><Relationship Id="rId120" Type="http://schemas.openxmlformats.org/officeDocument/2006/relationships/slide" Target="slides/slide99.xml"/><Relationship Id="rId121" Type="http://schemas.openxmlformats.org/officeDocument/2006/relationships/slide" Target="slides/slide100.xml"/><Relationship Id="rId122" Type="http://schemas.openxmlformats.org/officeDocument/2006/relationships/slide" Target="slides/slide101.xml"/><Relationship Id="rId123" Type="http://schemas.openxmlformats.org/officeDocument/2006/relationships/slide" Target="slides/slide102.xml"/><Relationship Id="rId124" Type="http://schemas.openxmlformats.org/officeDocument/2006/relationships/slide" Target="slides/slide103.xml"/><Relationship Id="rId125" Type="http://schemas.openxmlformats.org/officeDocument/2006/relationships/slide" Target="slides/slide104.xml"/><Relationship Id="rId126" Type="http://schemas.openxmlformats.org/officeDocument/2006/relationships/slide" Target="slides/slide105.xml"/><Relationship Id="rId127" Type="http://schemas.openxmlformats.org/officeDocument/2006/relationships/slide" Target="slides/slide106.xml"/><Relationship Id="rId128" Type="http://schemas.openxmlformats.org/officeDocument/2006/relationships/slide" Target="slides/slide107.xml"/><Relationship Id="rId129" Type="http://schemas.openxmlformats.org/officeDocument/2006/relationships/slide" Target="slides/slide108.xml"/><Relationship Id="rId130" Type="http://schemas.openxmlformats.org/officeDocument/2006/relationships/slide" Target="slides/slide109.xml"/><Relationship Id="rId131" Type="http://schemas.openxmlformats.org/officeDocument/2006/relationships/slide" Target="slides/slide110.xml"/><Relationship Id="rId132" Type="http://schemas.openxmlformats.org/officeDocument/2006/relationships/slide" Target="slides/slide111.xml"/><Relationship Id="rId133" Type="http://schemas.openxmlformats.org/officeDocument/2006/relationships/slide" Target="slides/slide112.xml"/><Relationship Id="rId134" Type="http://schemas.openxmlformats.org/officeDocument/2006/relationships/slide" Target="slides/slide113.xml"/><Relationship Id="rId135" Type="http://schemas.openxmlformats.org/officeDocument/2006/relationships/slide" Target="slides/slide114.xml"/><Relationship Id="rId136" Type="http://schemas.openxmlformats.org/officeDocument/2006/relationships/slide" Target="slides/slide115.xml"/><Relationship Id="rId137" Type="http://schemas.openxmlformats.org/officeDocument/2006/relationships/slide" Target="slides/slide116.xml"/><Relationship Id="rId138" Type="http://schemas.openxmlformats.org/officeDocument/2006/relationships/slide" Target="slides/slide117.xml"/><Relationship Id="rId139" Type="http://schemas.openxmlformats.org/officeDocument/2006/relationships/slide" Target="slides/slide118.xml"/><Relationship Id="rId140" Type="http://schemas.openxmlformats.org/officeDocument/2006/relationships/slide" Target="slides/slide119.xml"/><Relationship Id="rId141" Type="http://schemas.openxmlformats.org/officeDocument/2006/relationships/slide" Target="slides/slide120.xml"/><Relationship Id="rId142" Type="http://schemas.openxmlformats.org/officeDocument/2006/relationships/slide" Target="slides/slide121.xml"/><Relationship Id="rId1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A39-81F3-466F-8831-927ADA1B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EFB-5A07-49B3-A137-93BEF203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92F08-8DB2-4F37-9DB5-2E71AFF6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64103-62FD-4E4B-AB1F-E8CCD8DC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3EB14-B068-4EC7-8689-B98D965D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6BF72-328D-450E-8E62-BB9CBC3D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FE318-DB09-497C-BEB0-FF9C60F3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5F796-AC0B-45B2-ACD4-51C87C88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9F6A7-1EDB-443C-BFCE-8CC23C0A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496C4-E862-4C94-A790-135B0165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FCE1D-DC1F-441D-8018-FF157949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6C67A-DBC7-4498-A214-F8CD1D9C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21B-CF6C-477F-A2CE-A8547144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A60F7-99AE-4DAE-AB6F-96C942EE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DB27F-8BF6-4FD1-9B33-A789BDBF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54FD4-8F45-4AD3-BFD5-2EEC707C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7D5CF-69CD-4682-BABD-277A95CC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F84B1-7E6F-4965-B9AE-8418D96C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00062-D298-4609-915E-CBCCC65D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FC261-3E15-495D-8B09-8B840A2A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376C9-C1B6-4044-BB07-2D523F0B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ABD08-3D93-440A-B505-C4CA17DA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3CEF5-4B1E-4943-9E13-5365E35F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15C-47FD-450D-81CB-A36280DC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B9370-E763-4532-9DB6-4C7D0B05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2C221-B522-4F73-93C0-8FA26F4E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CB0CE-3EE2-46C4-979D-9A90198A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6BED9-838F-4E5C-B563-0AFBC98A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21C9D-94AD-49A1-9111-FBBED9AD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6AD03-CF1D-4A27-A614-D7237EE8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3E984-7216-40D3-8546-6E69CF30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BF360-0D35-4052-9AC7-75B8D1CB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484DB-8907-4967-A0A6-DD9AFBF7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77540-2207-4E63-A9B4-72C66EFD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82B4-C8E3-481E-9E6F-37B77EBB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364A6-1515-47D2-8FAB-E82F04CE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80263-565D-4608-8FF9-71372DAC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2B2F2-887F-41D6-BEBC-6BAA0049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94232-2462-4DA9-BB78-312CCF00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9821B-9857-43C2-BB28-CF7A69A5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EEBE0-AF89-46EB-8320-B1CC2571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5F35F-D285-45D4-AF36-9EFFB1F0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737E6-E10A-46E0-9E34-020E1680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F561A-E376-4478-A226-6EAF8259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EE33D-40DD-4C67-912A-3369F9E0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CCF4-AC55-41FD-BEB6-83262B3C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1F142-CA0C-4ACC-A0BB-DED2211E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05C64-F6CB-454C-8B5F-FD026A58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DAB40-650F-4A52-898C-31FA1FEE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CE8EF-0CBE-4AC1-8E1C-AD3C9C0D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3E47E-19AC-41B6-AE47-A095CC0B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CD942-CEB1-4D02-B116-9D6497C7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028EB-EA91-493B-A414-E6E9C9B9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FAD1E-1A89-4709-86A6-7D857CD1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6942C-3796-47BF-B3CD-17A0D597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88A4F-AF88-4C38-9D5C-FB7191BF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A54B-FFAA-4493-BA3A-1405E578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3CB1B-707A-4D78-8386-1497E418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F58ED-CBA1-4D22-8608-828012B0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841370-DD01-492E-BD65-91C428DF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4A56D-125C-40DE-BE51-3BEC8BBF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128B0-06F5-44CC-8244-706A3C3F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3F757-B04A-4E0F-BE83-41AE9820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7E28F-FEDE-43B8-8BEE-4AAFEC67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86D36-2FC5-4BA9-ACDE-8E2A9BD1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53CCE-822C-40CA-963D-BAE5AC87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5C8763-F566-4046-82E5-6B321D09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0A65-C53E-4580-8841-62AD2E56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764CF-E4F0-46EB-8C0A-412433D5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0428F-37FA-4FBD-8263-32ABE9BD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0CA8F-66BA-48A8-AFE3-88B8B7B7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8FC7F-77DC-4B73-BA74-18742E51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34383-4E34-4BB0-AC56-3EDBCE0D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1B691-9037-4C89-96EA-D9973BA0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8E4E9-A110-4421-A34B-455FC3F5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3E2C2-E3A3-448D-A2A4-BEC209E4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CE1C0-F9F5-4CDF-A47B-5994E4D7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FBEF91-4E5D-40FD-A7EC-07AC7143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04ED-7FF6-4C20-A37E-670F8A72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F235C0-55BC-48BD-9D7F-1A64BD39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2EBAC-82C8-4583-B695-D7F86B11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04CD5C-7E27-40C0-AE5B-617C0288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EC944-4D60-4CA0-8ACF-4E0C24A1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8A6EE2-AF3A-49DD-AEFC-2C5804D6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B1BB18-B899-4ACE-BB2C-32938041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8DAC7-EF7F-4235-9F81-A5DF61D9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64F70C-7943-4745-9231-A07977B1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671B8C-C237-4F75-8ABC-652412E0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C28C4C-975E-4135-8017-66AB2AD5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D7B9-0EBA-4C0B-B3AD-6A184091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1106A4-6852-4048-8331-5CAF3674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59D53-E044-4040-BB7F-7658B42A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B3728-471E-4928-8686-55C3DA77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9CC372-5DA1-4418-8EA5-C273883B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420BB5-2A9C-4471-A162-5103783A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7DF69-9162-42A4-8B19-7EAB2692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2A3E8-81B7-44F4-9960-A5C1B059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AFB639-E048-4985-83DA-9441EB40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A9999-9E68-4512-881F-6030F6CE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28A67D-B313-456B-83FD-53A4461D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6F0A-FF94-46E7-B69F-5564A079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894BA-1B3F-431E-B072-93BFFBB2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318D3-965B-4504-B7CB-CABB8C00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92901-9C8C-4FF6-9D33-6CE41B82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07E1B5-D2A6-4367-A3D4-2A25A929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94BCD3-A4A3-44CA-838B-293D5D75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926438-E356-43C7-92AF-6497459E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89D6B9-3FBD-45F6-809B-D4CE8969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B6630-22E9-4861-AD95-6410A8B4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615F04-52BE-4D4F-B363-CF59BAB1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BCD168-D603-483E-9E8D-5007F527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67C-EBA2-4A99-8CC0-80BC7654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F176-6C0E-40C3-AC4A-EC4C76F5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BCDE26-565C-45C4-A6F4-7899BC95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CDDA3-B4E1-4954-A6DE-68E97131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49FA5A-5015-4D02-BBBD-6055F412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D7741F-E13E-429B-AB16-6291FB10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2ABFED-1DED-47ED-A2D9-F58E0825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7F5ABA-AAB2-4B22-89DA-9F591D2D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9579F4-949B-476B-BFB0-F97DAEAF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8B88F-54DA-4743-AE5C-6040868B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0FED2B-865F-4181-A84B-8FADD3D2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43E48E-396B-4EC0-B04A-92289EAE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AA90-EBF1-4E6D-9DBD-3FA69A8D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AEDC45-983C-4A59-BE95-E170A9EC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2D11E9-8E7A-42D7-B89A-A8924F5A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76EB3-44D6-42B8-A316-381F332F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4261A1-9F36-4D03-A742-CF19511A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A7B092-A2EE-4BD4-AD56-01B097CA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79972F-14CB-4571-AB0C-E1002D2F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EC804B-D4CD-46D8-A8DB-648D61E0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34AAA-42D1-4209-8E9D-67A68383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93BEF4-BF5E-4F5B-9D4A-BF72F5A6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4FE8B1-CB7A-45CA-BA4E-3514E146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3B5E-D05C-4F6E-AF9C-01076542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A95FEE-ED04-40EC-82B2-FBE3C4A4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09B81E-E554-49AC-BC9A-9C136315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D53B48-F952-4593-A5A5-469B6001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C94675-9998-412E-9CF2-0B09580E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C7EBBC-27CE-4986-8F5E-6D899485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5F4878-64D9-47FC-B986-0BF443F8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226D06-5C43-43BB-AA77-31895BC8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78C88D-FFB6-4EBE-A81B-B7089239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095093-8243-4CE7-8047-9A7CDF0E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B75B1E-419A-4920-A45C-24C97E55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B81F-DC87-4853-B37C-DA61DBCF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1E79D0-3BDB-4ABA-8452-C1375A79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A1C058-A7F5-4B25-864E-D2AC10A0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60D271-81E7-4F45-BD07-162A981B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0A2C24-2096-40E3-87FD-F187E18C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95B921-465B-4273-8415-2AF8C1CC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98AEBD-8029-4669-9ADB-1F336FF7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440176-3033-4C1D-B4DE-0DCC218B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D405F2-74CB-493A-8A68-96FBB957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AC70D0-67A4-4F56-B7F8-56F1E63E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D938A4-0DA2-4266-92A0-7A13ACA2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53D3-899A-439D-80F3-E519B97F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2C992-E386-4219-A69A-BE9E3895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E1379-49C1-4955-B2BD-355C6872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35710-D6EA-4903-A8F1-D12B95C9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CCF41-364E-4F64-8579-5229D8F5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B08E-2235-42AB-AF05-3002593A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0A8C-E4F7-4B20-8AF2-01F4C1E6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DA6-5128-474D-87E0-EE6A9C43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414A5-CF3A-48FC-BEFE-A8A926C2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D188-CAB8-4F4D-84A7-72F7C5A9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906B-B6A7-477F-9796-41BA58D5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C53A0-B474-48AF-99C6-83EE8201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99E51-6260-4894-852B-95BFDE8B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2E5A-A7B3-41BF-B654-39CFD3D3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2F50-4B5D-4204-AFFE-EE456DF4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6757-197C-41DC-97AA-99F4A919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3AA9F-64D6-45CC-9F58-6A2EA308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95974-31FB-4104-989F-4A996800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D08-0806-40D4-9DD5-681931CD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01DD9-A27E-4F1F-B3F2-838B179C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A2A0C-06C2-4AEC-B8EC-168EC8B0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0D5C9-9E5D-460C-9191-2D44903C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ABBA7-DC79-4B00-B882-CB90F762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21542-05C7-4026-8C02-93A52E67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F0C3F-BBCD-47FF-ADE6-E90F7769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668C-CBF6-4EFD-8BBB-95532B7A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C507-2ECF-40DE-8916-EB972976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6B337-0324-470A-8D4B-F7983278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45F2B-86D7-4CDA-BD82-A4DEFA54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EB3-A4D6-4A26-BD00-94AD7E41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081D9-A1F4-4A68-BEC3-0EBAAD79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A078D-F8DE-467D-9418-CF095A44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E8119-A9C3-4DE3-98DA-80AFA4FA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71124-D090-411B-8347-FDDAA13A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AF66F-9E13-462E-9E1E-3598D84F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7EC0A-E212-4CFE-932B-6E5327A3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52E82-5A72-4078-9E0A-16BC5ED0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A5F68-A400-43D1-B2DE-D218953E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D846D-C3E0-408D-9F8C-B265BC15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4D788-E00C-42D6-8683-3749EFEC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FCC-E018-4782-8416-5A3005CF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738D6-2C8D-4637-BC95-9A9FCD2E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A906C-3BE7-45CE-BAA1-BC4791B1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5B52F-D044-4D22-86E4-4364BE26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82CE2-A686-4F8D-BA07-1DA63E4E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9FEB8-2EFB-4564-AA68-023B24E4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0C989-C307-4B5A-9E89-C54914BA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34A93-1C28-45B9-A9A3-9CE6E240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59371-43CC-4BAF-AD27-F1E13FC8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E7A17-5676-44DA-867D-1A8B42FC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62E0E-1DCB-4C1A-8589-33C59F48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B3A-A01A-4CC4-8F8C-1D535B7D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8F196-AF24-4F5E-B513-1F1CF169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A7C63-46D1-46BB-B220-67C29F35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A5040-253B-414D-8562-1C899743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F644E-6A3B-4DE2-82B9-718448BD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7F25D-3053-4866-9162-2D1B035E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1A90C-05AA-4DEE-BAF5-79D8E715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EDE88-AFD4-4337-8982-2A9F4349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2BDD4-95AC-4B33-883D-BCCA7E57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8662D-C44A-4C57-AF72-BF2BB163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B2C1E-B28F-4060-AB6C-64CB0698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801D-171B-48BB-AAD9-C976A6B1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4C914-0D3E-42F8-B4F5-357DC94F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14988-EDE3-4CC2-9D6D-8BD14000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A0952-92AA-4680-A16A-1E4D367E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24D58-F5BF-4A84-B268-579FC375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7C008-89E7-47FE-9625-3365B491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731B6-A777-49E9-8D65-2A542F70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24A89-97C8-4499-9446-5992DA3D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4E1F9-A576-45A5-BEB0-4CC03320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05990-90B3-40AF-9ACB-E0EC6A74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9FA98-A920-421B-B484-BFE00F05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056-E135-4F6B-B5BA-96A3C44D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D39C6-08E1-4028-B9A6-AF180D38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97358-0448-4781-B168-455FEC29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D3D46-8145-4B88-89CD-E65FCB61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57AA9-7817-4C7C-9C99-DB8B0D4C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F0F76-CD40-4CDA-A6C3-B3218119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63443-5C53-4B77-B1F9-8281C627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EB16D-1176-4F56-ABF0-3681713D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E043F-D1F3-4E71-828B-9829A0B5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0022C-B301-4966-9E0D-A654847A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233D4-E71C-4D36-BDBF-89F1F125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C94E-DFFF-47DA-A711-A67D0E6B459F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5E4A-E332-4CF4-A184-95B942D707B0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38BC-4381-42DD-AB93-9E21FBD86D61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EC8B-D361-44E7-BB12-1F2BDD579686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12F9-6ACF-4CB1-BFEC-3A1AD3E67696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D18A-5E68-47EC-A0B8-F8BCA0BE49B5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B0A7-7CDC-4230-9179-B084674FD8E4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2799-8AF8-431A-8508-8586F8B1B91F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9233-942F-4AE0-A5AE-AA41830D85A2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3C5B-D41B-413A-A167-E82232CF0E94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48B7-14E0-4867-99FF-42AE80F12ED7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E8B1-4AB8-4B5E-9296-1B15B66F9348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BABD-2BF0-4B7F-9489-947DEE9BE9D3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90B0-12A8-49C2-9C68-3FA96FB29C05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8C19-3A9B-4E2F-9ACC-6BF086361F2F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3B82-8393-4FF9-B86A-FA37B5E9E4F4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F753-9F08-4662-893A-F0BBF82FD577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07D1-E35E-4FA9-9BBC-B426761E16B0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C548-B28E-40DE-899D-A97A4C760E8F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559F-E10C-42B9-BA3D-DB36A9E9C5AF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of 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Kragujev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HEM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lead to health disorders at home and at the workpla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GREE OF COLLECTIVE I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degree of herd immunity required to prevent disease 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vari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from disease to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bility of individuals to transmi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length of its contag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mode of transmission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the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size of the collectiv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nd the relationships within it (closeness and intensity of contacts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existence of collective immunity can be explained by: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bsence of an epidem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a pop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yclical variation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some infectious diseases, especially those transmitted by droplets, that is, by direct contac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oces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elf-regula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epidemi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The totality of external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tors of living and non-living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nature that act on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pecific unit or ecological communit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determining their development and surviva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 (Ecospher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layer of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arth's crus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including water and air, in which all the living world is lo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- ge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- biosphe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COLOG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cience of the relationship between living beings and the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t surrounds them (other individuals of the same species, flora and fauna and the entire inanimate nature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DICAL (HUMAN) EC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studies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rrelationships between man and the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t have an impact on health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1. 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includes inanimat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on-living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nature - the geosphere (water, oxygen, minerals...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m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ydr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hosphe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ABIOTIC (GEOPHYSICAL) ENVIRONMENT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tors of the non-living environment that affect the distribu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health and disea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graphic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imate factor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RECT impact on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ndemic goit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lack of iodine in so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wat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luoros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tooth damage due to increased F2 content in wat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lung canc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increased emanation of radon from the soil increases the natural radioactivity background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he most important chemical agent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stic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insect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fung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herb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food indust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synthetic co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preser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antioxid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dicin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DIRECT impact on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composition of the soil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ypes of flora and fauna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e way of human nutr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oil permeability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water supply, water p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in the karst regions, there is a risk of hydric epidemic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GRAPHICAL factors (location of terrain, configur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RECT influenc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n the topographical distribution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hanks to the English Channel, there is no rabies in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. Bri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connection of terrain with river valley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EOGRAPHICAL factors (location of terrain, configur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DIRECT influenc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n the topographical distribution of the disease - The configuration of the terrain determines where the settlement will be buil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ffects the degree of air pol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košava in Bel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the location of Sarajevo in the bas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most important for the epidemiological situation are the geographical factors that determine the climatic conditions (latitude, altitude)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IMATE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olar rad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ecipi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affect health DIRECTL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heatstroke, frostbite, "white death"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IMATE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DIRECT action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urvival m.o. in the external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e type of flora and fauna affects the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eservoir and carrier behavior (wintering rode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behavior of other animal species (in the temperate zone of the country they do not bite during the cold perio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activity of the man himself (field work, hunting, summer vacatio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BIOTIC (BIOLOGICAL-SOCIAL)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1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Living beings and the relationships they establish with each other (depend on social organization and degree of evolutionary developme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lonies of flies and be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uman commun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2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IRECT EFFECTIV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nimals or plants lead to disorders of human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fectious disease agents (viruses, rickettsiae, bacteria, fungi, protozoa and multicellular parasi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oisonous plants (head of rye, cornfl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oisonous animals (spiders, snak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ypersensitivity to otherwise harmless plants and animals (pollen, feathers, etc.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3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INDIRECT EFFECT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e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nimal reservoirs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probability that ticks transmit Lyme disease depends on the type of vegetation (tall grass), the type and number of animals on whose blood the tick f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choice of profession and the type of economy of the social communit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4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LUENCE ON PEOPLE'S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the past (plants, animals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malnutrition, dying of hunger and infecti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day, relationships in the human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ocio-economic status, available patterns of behavior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ffec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lifestyle (diet, smoking, physical activity, alcohol consumption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5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uman behavior (certain habits) has an impact on the structure of illness and death (on national patholog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mmunities affected by rapid social chang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oor countries becom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"welfare states"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duced physical activity, increased obesity, more diabetes and heart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1" name=""/>
          <p:cNvGraphicFramePr/>
          <p:nvPr/>
        </p:nvGraphicFramePr>
        <p:xfrm>
          <a:off x="152280" y="152280"/>
          <a:ext cx="8763120" cy="6524640"/>
        </p:xfrm>
        <a:graphic>
          <a:graphicData uri="http://schemas.openxmlformats.org/drawingml/2006/table">
            <a:tbl>
              <a:tblPr/>
              <a:tblGrid>
                <a:gridCol w="1866960"/>
                <a:gridCol w="2933640"/>
                <a:gridCol w="3962520"/>
              </a:tblGrid>
              <a:tr h="1189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AGENT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SON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OGENOUS orig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RGANIC (halogen elements, CO, Pb, Hg, acids, bases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C (chloroform, ether, alcohol benzene, phenol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GENOUS orig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BIOLOGICAL origin (toxic mushroom toxins, alkaloids and glycosides of plant origin, snake venoms, insects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emia, hepatitis coma, diabetic coma, hypoglycemic crisis, hypercholesterolemia, hormonal imbalanc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6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olent destruction of existing social relations (wars, revolution) leads to worsening of the epidemiological situ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BIOLOG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uses of infectious diseas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ickett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ung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otozo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tazo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haracteristics of living agents on which the emergence of INFECTIOUS diseases depends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ay of excretion from the b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ay of entering the b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aracteristics of living causative agents on which the occurrence of INFECTIOUS disease depends 2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x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mmun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ensitivity and resistance to drugs and disinfect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sistance in the external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assification of the causative agents of infectious diseases according to RESISTANCE in the EXTERNAL ENVIRONMENT – Chernozubov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Obligate parasites outside the body perish quick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measles, syphilis, gonorrhea, epidemic mening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They survive outside the body for a while, but do NOT reprodu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B bacillu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assification of the causative agents of infectious diseases according to RESISTANCE in the EXTERNAL ENVIRONMENT - Chernozubov 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3. OUTSIDE THE ORGANISM, under favorable conditions, they REPROD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t. typhoid, paratyphoid, cholera, dysent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4. They survive for a long time in the external environment in the form of SP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anaerobic bacteria - causes of tetanus, gas gangrene, botulism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FLUENCE OF VIRULENCE AND THE QUANTITY OF GERMS ON THE DISEASE AND EPIDEMIC PROC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eatures of the biological agent responsible for the occurrence of infectious diseas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 Infe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FLUENCE OF VIRULENCE AND THE QUANTITY OF GERMS ON THE DISEASE AND EPIDEMIC PROC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2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? Physiological characteristic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? The ease with which the disease is TRANSMITTED to other ho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VITY? The ability of the agent to PENETRATE the host, MAINTAIN itself and REPLICATE (develop in it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LESSON 3 (THIRD WEEK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log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oir of infectious agents and source of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ly focal inf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sition. Basic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pollution. Environment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FLUENCE OF VIRULENCE AND THE QUANTITY OF GERMS ON THE DISEASE AND EPIDEMIC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IRULENC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gree of pathogeni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ariable property of microorganis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st and environmental factors alter virulence(S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ability to attenuate virulence is used to produce live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reater number of passages on artificial feeding ground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ttenuation, retain their antigenic properties (live vaccines - MoRuPar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QUANTITY (infective dos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ppearance, course and outcom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length of incubation of certain infectious diseases is inversely proportional to the amount of the causative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length of incubation of certain infectious diseases is inversely proportional to the amount of the causative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ydric epidem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an incubation period longer than average for a given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subclinical and mild atypical infections than expec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thality lower than aver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For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limentary epidemic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the opposite is tru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Infectious dose required for certain infectious disease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00.000,000 cholera ge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000 germs for t. typh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00 germs for dysent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inimum amount for transmissive and some respirator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QUANTITY (infective dos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ignificant in undertaking preventive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coming into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ontact with a small amount of the causative ag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we prevent the occurrence of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ubclinical infections develop resist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HOST = reservoir and/or sourc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2514600" y="3352680"/>
            <a:ext cx="411480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cological Triassi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4116600" y="114228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7"/>
          <p:cNvSpPr/>
          <p:nvPr/>
        </p:nvSpPr>
        <p:spPr>
          <a:xfrm>
            <a:off x="230040" y="510480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8"/>
          <p:cNvSpPr/>
          <p:nvPr/>
        </p:nvSpPr>
        <p:spPr>
          <a:xfrm>
            <a:off x="6901920" y="5257080"/>
            <a:ext cx="22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RESERVOIR?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A person, animal, arthropod, plant, soil or substance as well as a combination thereof in which an infectious agen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normally LIV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nd from which i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AN be transmitted to a SUSCEPTIBL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natural habitat of the infectious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? 2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Most ofte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t is a living organism, but it can also be an inanimate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oil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ores of tetanus, gas gangrene, anthrax, parasite egg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scariasi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ot water pipe system (shower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ir conditioning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ir humidifying condenser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? 3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necessary component of the life cycle of an infectious a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e or more reservoirs involved in the circulation of an infectious a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single host as a reservoir of infection is included in the simplest life cycle mode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4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 infectious agent circulates in nature thanks to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agent from person to pers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most infectious diseases (streptococcal and staphylococcal infections, diphtheria, sexually transmitted diseases, child rash fever, parotitis, typhoid fever, amebiasi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The factor whose presence, abundance or relative absence is a NECESSARY CONDITION for the occurrence of a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5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n can also be a reservoir for some diseases that are transmitted to him from animals (anthropozoonoses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ovine TB (from cow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rucellosis (from cows, pigs, go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thrax (from shee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ptospirosis (from rod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abies (from dogs, foxes, wolves...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6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most complex agent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logically different reservoirs and different developmental stages of the infectious agent (echinococcosis, schistosomiasis and malaria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finitio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person, animal, object or substance from which an infectious agent is TRANSMITTED to a susceptible host at a certain moment and leads to the appearance of a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drinking water contaminated with S. typ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a salad contaminated by an infected cook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MOST IMPORTANT RESERVOIR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SERVOI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4"/>
          <p:cNvSpPr/>
          <p:nvPr/>
        </p:nvSpPr>
        <p:spPr>
          <a:xfrm>
            <a:off x="5565600" y="20566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5"/>
          <p:cNvSpPr/>
          <p:nvPr/>
        </p:nvSpPr>
        <p:spPr>
          <a:xfrm>
            <a:off x="5490360" y="40377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8"/>
          <p:cNvSpPr/>
          <p:nvPr/>
        </p:nvSpPr>
        <p:spPr>
          <a:xfrm flipV="1">
            <a:off x="4038480" y="24379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9"/>
          <p:cNvSpPr/>
          <p:nvPr/>
        </p:nvSpPr>
        <p:spPr>
          <a:xfrm>
            <a:off x="3962520" y="35812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Man as a reservoir of infectious agent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PATIENT as a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yconoser as a reservoi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odromal st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ypical clinical 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typical clinical 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A severe form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A mild form of the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 the prodromal stag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the largest number of germs are excreted, the highest infectiv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atarrhal stage of measles, varicella, rubella, vari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reicteric stage in viral hepatit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milest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sufficiently expressed symptomatolog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is not possible to make an exact diagnosi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uring the TYPICAL clinical pictu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manifested symptoms characteristic of that infection) reservo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asles (measles, variola, varicella, rubella, scarlet fev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seudomembranes on certain organs (diphtheria, inflamm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rtussis (pertussi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ningeal syndrome (epidemic meningi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ripheral paralysis (polio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YPICAL clinical pictu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manifested symptoms characteristic of that infection)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have no epidemiological signific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iagnosis was made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solation and treatment set in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n drops sharply and lasts for a short time (viral hepatitis A, pertussi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Severe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fudroagent, fulminant, malignant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ath occurs before diagnosi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d a large amount of ge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morrhagic variola (variola conflu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udroaiant form of epidemic mening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diphtheria c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morrhagic scarlet f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algid form of chol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patitis A in pregnant wome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e agent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erent mutually unrelated agents (alternative effect)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complex of two or more agents (cumulative effect) →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2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ambulatory, abortive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don't go to the do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iagnosis is wr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are not treate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3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(ambulatory, abortive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re inadequately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varicella, measles, rub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scarlet fever without ra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phtheria inflammation without pseudo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ertussis without pri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ambulatory form of typhoid fe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common diarrhea in dysentery and chol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poliomyelitis with catarrhal changes on th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sp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 and git. t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viral hepatitis A in childre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4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ymptoms deviate from the characteristic clinical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ymptoms more intense or mild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se patients are epidemiologically very importa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MAN -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ATIEN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uring the NON-MANIFEST form of the disease, the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ical significance gr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king the diagnosis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asy spread of infection to the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ARRIERS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ARRIERS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cubation carr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rriers after an illnes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-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valescent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cut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germ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Chronic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arr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1/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persons whose infection is inapparent throughout its cou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o clinical picture-symptoms and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ads to seroconversion as an objective sign of infec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y arise in the case o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small number of ca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Weakly virulent str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artial (specific or non-specific)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leaves immunity of the same quality as in the case of a manifest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diagnosis is made exclusively in the laboratory (isolation of the causative agent, serological re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ccur if there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sence of dis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ecific resist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Healthy or asymptomatic carriers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It is difficult to distinguish them from non-manifest pat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Excretion of caus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is short-li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ppear during an epidemic of the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Among the persons in the patient's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those who take care of the s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rarely discovered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More dangerous than germ carriers after previous illn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*)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seases with a high clinical manifestation index (ICM) do not leave germs even after the disease has passed: Measles, varicella, rubella, variola, influenz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Classifications of agents and their characteristic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umer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mpli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gents can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Phys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Chem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3. Biologica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UNMANIFESTED inf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ical importance is gr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asy spread of infection to the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rriers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uring incub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= from the penetration of the infectious agent into the host organism to the first symptoms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Short incubation (cold, flu, bacillary dysentery, SP infection, SF intoxic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Long incubation (AIDS, hepatitis B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What affects incub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genas number and virule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ost sensi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lace of entry into the body (shorter incubation in tetanus after head and neck injury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arriers in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INCUBATION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1. The patient in incubation is NOT a reservoir of infection (chickenpox, variola, measles, pertussis, flu, typhus, paratyphoi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2. The patient is a reservoir of infection AT THE END of incubation (parotitis, acute viral respiratory diseases, poliomyeliti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3. The patient is a reservoir of infection during a LONGER PERIOD (hepatitis A - second half of incubation, hepatitis B - several weeks in the second part of incubation, hepatitis C - one or more weeks in the second part of incubation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FTER AN ILL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valescent or acute g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ronic germinabil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FTER HAVING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CUTE carrie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fter clinical recovery, people excrete pathogens for a short time (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maximum 3 month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onvalescent, transitory, temporary especially if there was no adequate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HRONIC carr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athogens even 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after 3 m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 from a chronic illness (several years or until the end of life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Carrier AFTER HAVING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s pathogens even after 3 m. from 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quired diseas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several years or until the end of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ay b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ccasional (intermitt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rmanentl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acillary dysentery – more m. up to 1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. typhus and paratyphoid – 2-5% of people; in those with chronic inflammation of the gallbladder, bile duct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, renal pelvis, urinary bladder; can b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fecal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urinary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more dangerou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l tor cholera – r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amonellosis – 1% of adults, 5% of children up to 5 years old; longer than 1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3/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Carrier AFTER HAVING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CHRONI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phtheri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chronic inflammation of the mucous membran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several mon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SP infections - several mon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hepatitis B – transplacental transmission, HIV, Down's syndrome, hemodialysis pat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malaria - untreated or insufficiently treat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alciparum –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vivax 1-2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quartana – &gt;3 year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some diseases (measles, chicken pox, influenza) there is NO asymptomatic or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valescent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rom an epidemiological point of view,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 can be more dangerou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n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patient is discovered and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rriers move freely and spread the infection to susceptible peop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ature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f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tensity (physical ag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xicity (chemical ag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(biological agent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Si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xcrete a large amount of germ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cow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Q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go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brucell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igs, cows, etc. domestic animals, roden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leptospir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thropozoonos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rticularly importan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seases of animal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hat can also affect huma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otspo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 the wild (wild animal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 human settlements (domestic animals, wild animals - rod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f all animal diseases,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nthropozoonoses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(animal diseases from which humans can get sick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re especial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Pronounced clinical sign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animal diseases: anthrax, TB, rab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pizootic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animals with high mortality: plague, tularemi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most commonly infected animals do NOT show any signs of illnes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xcrete a huge amount of causative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to the environ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cows with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goats in brucell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igs, cows, rodents... with leptospir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ons are often maintained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nzooticall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animal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n free natu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mong wild anim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 human settlemen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domestic animals and synanthropic rodents (mice, rat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Anthropozoonoses according to et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Bacterial: anthrax, bovine TB, tularemia, leptospirosis, malleus - sakagia, pla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Viral: rabies, psittacosis-ornithosis, слинавка-шап, yellow fever, seasonal encephalitis, viral hemorrhagic fever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Rickettsial: Q - fever and other spot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reckl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rotozoal: toxoplasmosis, schistosomiasis, leishmaniasis, trypanosomi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Helminth infections: taeniasis, echinococcosis, trichin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ungal: microsporia, trichophytia, favu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nfections of natural foc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ope (environment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or less limited areas in free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rmanently inhabited by certain types of organisms that make up the biocenosis (living community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atures of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Highly infectious agent → single exposure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Other infectious agents and many non-living agents → larger quantity; longer action →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ope and biocenosis are connected into a unique whole, a system of a higher rank, the so-called ecosystem or geobiocen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NATURAL FOCUS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ampl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opulation that, together with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vertebrate hos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opulation (and in the case of transmissible infections, the vector population), in a certain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biotop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rconnected by food chai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person accidentally exposed to infection during the following activit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resters, soldiers during the camps. and marches hunters, scientific research teams, mountaine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frequency of infection of people staying in a natural hot spot depends 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t spot valences (hungry ticks and ins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umber of ex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posure length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natural focal infections? fungal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viruse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rotozoa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bacteri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rickettsi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helmi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tribution of hotspots according to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number of causative agent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unicau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ulticau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tribution of hotspots according to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number of animal species involved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ingle house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ulti-famil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donor and receptors (recipi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onor and receptors (recipients) of the causative agent are populations of various specie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wild vertebrat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hosts of the causative agent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vision of hotspot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ccording to vecto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insects and spider-like arthropods) that participate in the transmission of pathogen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ingle v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lti-v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litting hotspot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by siz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ocal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u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reproduction of wild animals, vectors and microorganisms is affec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easonal chang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activity of a natural hotspot (extinguishing or moving away from human settlements) is influen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uman activ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NTHROPURGICAL FOCU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search of food, wild animals bring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ot spots closer to human settlemen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clude domestic animals and rodents in the enzoot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ick-borne meningoencephal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rimean-Congo hemorrhagic fev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487692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CHANISM OF MAINTENANC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457200" y="1600200"/>
          <a:ext cx="8229600" cy="222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ion of causative agents in the form of a primary, independent epizootic proces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9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ensitive animal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or animal (receptor)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ly manifestly ill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inical form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Line 4"/>
          <p:cNvSpPr/>
          <p:nvPr/>
        </p:nvSpPr>
        <p:spPr>
          <a:xfrm flipV="1">
            <a:off x="4343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5"/>
          <p:cNvSpPr/>
          <p:nvPr/>
        </p:nvSpPr>
        <p:spPr>
          <a:xfrm>
            <a:off x="441972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56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8534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evention of natural focal infections? It is based on knowledge of the characteristics of the enzootic process in a specific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ecific prot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inimizing contact with the reservoir and carrier of pathog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terruption of the circulation of the causative agent in the natural focus (maximum reduction of the number of reservoirs and carrier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HYS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emperature (low and hig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onizing rad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chanical agents (mechanical force, sound, shock, vibr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y lead to inju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n workp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n sports f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wa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cous membrane of the respiratory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cous membrane of the digestive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k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sible mucous membran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netration of the causative agent through ONE entry poi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kin - transmissible infecti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gestive tract – most intestinal infectious diseas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netration of the causative agent through MULTIPLE points of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4" name=""/>
          <p:cNvGraphicFramePr/>
          <p:nvPr/>
        </p:nvGraphicFramePr>
        <p:xfrm>
          <a:off x="304920" y="1208160"/>
          <a:ext cx="8686800" cy="5661000"/>
        </p:xfrm>
        <a:graphic>
          <a:graphicData uri="http://schemas.openxmlformats.org/drawingml/2006/table">
            <a:tbl>
              <a:tblPr/>
              <a:tblGrid>
                <a:gridCol w="2819160"/>
                <a:gridCol w="2438640"/>
                <a:gridCol w="3429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entry poin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tive agent, diseas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de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trance plac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the respiratory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ptococcal infection, diphtheria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ble mucosa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sa of the digestive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o viru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of the respiratory trac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rax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the digestive and respiratory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 and macro lesions of the skin and visible mucous membran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tospirosi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ane of the digestive tract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Flammable process at the front doo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457200" y="1600200"/>
          <a:ext cx="8229600" cy="5106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, bacillary dysentery; cholera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inflammatory process is retained exclusively </a:t>
                      </a:r>
                      <a:r>
                        <a:rPr b="0" lang="sr-Latn-R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t the point of entry</a:t>
                      </a:r>
                      <a:r>
                        <a:rPr b="0" lang="sr-Latn-C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SP infection; epidemic meningitis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ts penetrate further into organism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l hepatitis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hanges in the entry site, but in the </a:t>
                      </a:r>
                      <a:r>
                        <a:rPr b="0" lang="sr-Latn-R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rgans for which the causative agent has an affinity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-152640" y="0"/>
            <a:ext cx="9296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PIDEMIOLOGICAL CLASSIFICATION OF INF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DISEAS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(made on the basis of th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MAIN entry point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of the causative ag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0" y="762120"/>
          <a:ext cx="9144000" cy="6126120"/>
        </p:xfrm>
        <a:graphic>
          <a:graphicData uri="http://schemas.openxmlformats.org/drawingml/2006/table">
            <a:tbl>
              <a:tblPr/>
              <a:tblGrid>
                <a:gridCol w="2057400"/>
                <a:gridCol w="70866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,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les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olds, mumps, whooping cough, scarlet feve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hoid fever, paratyphoid A, B, bac. dysentery, vir. hepatitis A, polio, cholera, food poisoning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tor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ria, spotted typhus, relapsing typhus,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ow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ever, dengue, papatachi fever, leishmaniasis, trypanosomiasi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unculosis, carbunculosis, phlegmon, impetigo, actinomycosis, trichophytia, favus, erysipela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nd infection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anus, gas gangren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homa, blenorrhea, conjunctivitis of various etiology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real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orrhea, syphilis, HIV infection, viral hepatitis B and C, genital herp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SPOSI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efinition: the tendency of the host to get sick from certain disea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ries under the influence of various factors, the so-called DISPOSITI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eparate from factors that increase exposure to the ag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eases are the result of the action of both, so we call them together conditioning factor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SPOSITION FACTOR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EN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THNIC AND RELIGIOUS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CCU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OCIO-ECONOMIC COND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THER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both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sposition and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ILDREN have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disposition towards the causative agents of poliomyelitis and viral hepatitis A, and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great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endency towards coliform bacteria and staphylococci; due to undeveloped hygiene habits, they are more exposed to intestinal infectious dis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DULTS are more exposed to sexually transmitted diseas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reater sensitivity and more frequent illness of women from some infectious diseases is a consequence of certain physiological conditions 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nstruation (+ tuberculin test, can become -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regnancy (infections of the renal pelvis with conditionally pathogenic agents are more common; the clinical picture of viral hepatitis A is more seve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fferences in the frequency of certain diseases in men and women are not only a consequence of biological differences, but also differences in lifestyle, that is, exposure to the 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HYSICAL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raffic trauma has a significant place in the structure of mortality in developed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hysical agents lead to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dividual illn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ss health disorders (nuclear accidents - Chernobyl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Racial affili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often they suffer fr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uberculosis, syphilis, pertussis – bl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oliomyelitis - wh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ERENCES as a result of the influence of other factors (habits, customs, socio-economic conditions), and not biological peculiarities of rac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thnicity and relig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slims are less likely to suffer from trichin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sequence of lifestyle, habits and custom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ccup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impact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occupation on disposition is difficult to asses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ttle breeders and veterinarians are more likely to suffer from some anthropozoonoses, and foresters from tick-borne meningoencephal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higher frequency of certain infectious diseases among members of certain professions is mainly a consequence of greater exposu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ocio-economic situ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the way of life, living conditions and hygiene hab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improving the economic and hygienic level, the frequency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stinal infectious diseases is reduced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Urbanization with accompanying overcrowding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ilitates the spread of respirator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fectio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e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adequat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take of proteins and some vitamins (A, S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creases susceptibility to infectious diseas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tarva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reduces the ability to create antibodies as well as the phagocytic ability of leukocyt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ther disease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any infectious and non-infectious diseases increase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tendency to oth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patients with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non-infectious disea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- bacterial pneumo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diabetic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- infections caused by pyogenic bac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Measles and pertussi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increase susceptibility to bacterial lung infections and activate tuberculosis foc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Fatigu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reduces resistance to inf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number of changes occur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pidemics of meningit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soldiers after a strenuous march, or more frequent occurrence of clinically manifest form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poliomyelit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fter exhausting play of children infected with the causative agent of this disease, have been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ccording to Selye, various stress factors, including fear, strong emotions, trauma, intense exposure to cold or heat,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an affect the reduction of resistance to infection through the pituitary adrenocortic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OLLECTIVE IMMUNITY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finition: the resistance of a population to certain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dividual immunity reduces the likelihood that an individual will contract a particular disease when exposed to an ag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ollective immunity reduces the probability of an epidemic after the introduction of an agent into a population or collective, regardless of the fact that some people in that population are still susceptibl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GREE OF COLLECTIVE IMMUNITY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is measured by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proportion of immun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eople in a pop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has significance for the epidemic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makes it possible to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predict the cours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the epidem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high % of immune individuals in the population reduces the possibility of contac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between the infected and the suscept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mmune population represents a barri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to the spread of the 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GI</dc:creator>
  <dc:description/>
  <dc:language>en-US</dc:language>
  <cp:lastModifiedBy>OGI</cp:lastModifiedBy>
  <dcterms:modified xsi:type="dcterms:W3CDTF">2023-09-26T10:20:31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